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DCB18-989B-499F-8C2D-84352D2D554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15235-431C-4C95-B8EF-6DA4F9250ED8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F31D1-2A0F-4F0D-9FCE-1DB017973FC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0C4B8-34AC-4F6B-91F7-7F7E3343C856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DCFE7-BEA2-4B56-9589-ED3ABF2EA328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8D753-F977-4E8A-BD6E-F5367E147F6A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040E6-A3AD-4DDD-B2C6-2E06BFE61F8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F2711-A143-4CE1-A468-CA9DE94913B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B5BAC-2C20-462F-9813-81DAF040B502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87B31-142F-4FC3-8C7F-462EA791C968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E80B5-E0A6-400E-9F05-229A5A8308E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DF1A6-7118-4E5A-A804-5C4C610B562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83B12-EBA5-4909-A3C4-F5F882CE7545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C49A5-A27E-4694-8C8D-F7887784DA8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842E4-FCF8-4A66-816E-35F7515FB2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8B7AD-1E3A-48D4-A2D0-EBE2A4E23D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D47AD-3A10-460D-B5DD-48F76861B5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596BD-E261-477C-87F4-D53B17D4E0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D302D-7C0A-4854-A10C-F52FD4BE06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DDD4B-D2EA-4BAB-B733-5AF981242D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5CE5F-9624-47DA-80EC-C11A735D1A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EBD7A-CA2A-4687-BBE0-CE9B733203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97776-0BA8-4CD7-A9AB-71B91E445B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0075A-85E5-4732-B849-836274E88B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4F68E-B97F-424B-988A-C46C63CC8A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0B1DD-C35A-4619-AE87-6D6B867B34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278E2-4F64-43D3-9186-28E7C06D87A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" name="Picture 2" descr="D:\바탕 화면\새 폴더\식약처_국_좌우.jpg"/>
          <p:cNvPicPr/>
          <p:nvPr/>
        </p:nvPicPr>
        <p:blipFill>
          <a:blip r:embed="rId2"/>
          <a:stretch/>
        </p:blipFill>
        <p:spPr>
          <a:xfrm>
            <a:off x="6659640" y="6237360"/>
            <a:ext cx="2097000" cy="436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468360" y="2276640"/>
            <a:ext cx="8207280" cy="367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◎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발표평가자료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PPT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파일을 사용해야 합니다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휴먼엑스포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발표평가자료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PPT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템플릿을 변경할 수 없습니다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휴먼엑스포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발표평가자료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PPT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양식을 변경할 수 없습니다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◎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발표평가자료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PPT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파일제목은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휴먼엑스포"/>
              </a:rPr>
              <a:t>“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과제접수번호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휴먼엑스포"/>
              </a:rPr>
              <a:t>”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입니다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◎ </a:t>
            </a:r>
            <a:r>
              <a:rPr b="0" lang="ko-KR" sz="2400" spc="-1" strike="noStrike">
                <a:solidFill>
                  <a:srgbClr val="ff0000"/>
                </a:solidFill>
                <a:latin typeface="휴먼엑스포"/>
                <a:ea typeface="휴먼엑스포"/>
              </a:rPr>
              <a:t>발표시간은 </a:t>
            </a:r>
            <a:r>
              <a:rPr b="0" lang="en-US" sz="2400" spc="-1" strike="noStrike">
                <a:solidFill>
                  <a:srgbClr val="ff0000"/>
                </a:solidFill>
                <a:latin typeface="휴먼엑스포"/>
                <a:ea typeface="휴먼엑스포"/>
              </a:rPr>
              <a:t>20</a:t>
            </a:r>
            <a:r>
              <a:rPr b="0" lang="ko-KR" sz="2400" spc="-1" strike="noStrike">
                <a:solidFill>
                  <a:srgbClr val="ff0000"/>
                </a:solidFill>
                <a:latin typeface="휴먼엑스포"/>
                <a:ea typeface="휴먼엑스포"/>
              </a:rPr>
              <a:t>분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이므로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PPT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작성시 참고바랍니다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휴먼엑스포"/>
                <a:ea typeface="휴먼엑스포"/>
              </a:rPr>
              <a:t>※ </a:t>
            </a:r>
            <a:r>
              <a:rPr b="0" lang="ko-KR" sz="2400" spc="-1" strike="noStrike">
                <a:solidFill>
                  <a:srgbClr val="3333cc"/>
                </a:solidFill>
                <a:latin typeface="휴먼엑스포"/>
                <a:ea typeface="휴먼엑스포"/>
              </a:rPr>
              <a:t>본 페이지는 발표자료에서 삭제하여야 합니다</a:t>
            </a:r>
            <a:r>
              <a:rPr b="0" lang="en-US" sz="2400" spc="-1" strike="noStrike">
                <a:solidFill>
                  <a:srgbClr val="3333cc"/>
                </a:solidFill>
                <a:latin typeface="휴먼엑스포"/>
                <a:ea typeface="휴먼엑스포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250920" y="549360"/>
            <a:ext cx="8642160" cy="1458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017</a:t>
            </a:r>
            <a:r>
              <a:rPr b="0" lang="ko-KR" sz="32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년 식약처 용역연구개발과제 </a:t>
            </a:r>
            <a:endParaRPr b="1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선정 발표평가자료 작성시 주의사항</a:t>
            </a:r>
            <a:endParaRPr b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7-1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개발비 규모 및 비목별 예산편성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900000" y="1413000"/>
          <a:ext cx="7345440" cy="4522680"/>
        </p:xfrm>
        <a:graphic>
          <a:graphicData uri="http://schemas.openxmlformats.org/drawingml/2006/table">
            <a:tbl>
              <a:tblPr/>
              <a:tblGrid>
                <a:gridCol w="881280"/>
                <a:gridCol w="1158840"/>
                <a:gridCol w="928440"/>
                <a:gridCol w="2041560"/>
                <a:gridCol w="1113120"/>
                <a:gridCol w="1222200"/>
              </a:tblGrid>
              <a:tr h="5644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                                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   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  목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 구 개 발 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율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%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건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rowSpan="10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경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내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외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유인물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산처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약 및 재료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회의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임차료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교통통신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감가상각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성과활용관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관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합         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60" name="Text Box 86"/>
          <p:cNvSpPr/>
          <p:nvPr/>
        </p:nvSpPr>
        <p:spPr>
          <a:xfrm>
            <a:off x="7020000" y="1052640"/>
            <a:ext cx="145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단위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천원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7-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국외출장의 적절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지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자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장목적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비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8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수행 일정의 적정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목적하는 연구결과 도출 가능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0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성과의 활용 가능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과제제안서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RFP) </a:t>
            </a:r>
            <a:r>
              <a:rPr b="1" lang="en-US" sz="1600" spc="-1" strike="noStrike">
                <a:solidFill>
                  <a:srgbClr val="0000ff"/>
                </a:solidFill>
                <a:latin typeface="굴림"/>
              </a:rPr>
              <a:t>(1</a:t>
            </a:r>
            <a:r>
              <a:rPr b="1" lang="ko-KR" sz="1600" spc="-1" strike="noStrike">
                <a:solidFill>
                  <a:srgbClr val="0000ff"/>
                </a:solidFill>
                <a:latin typeface="굴림"/>
              </a:rPr>
              <a:t>장으로 작성</a:t>
            </a:r>
            <a:r>
              <a:rPr b="1" lang="en-US" sz="1600" spc="-1" strike="noStrike">
                <a:solidFill>
                  <a:srgbClr val="0000ff"/>
                </a:solidFill>
                <a:latin typeface="굴림"/>
              </a:rPr>
              <a:t>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목표 </a:t>
            </a: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요연구내용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대성과 및 활용분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609480" y="549360"/>
            <a:ext cx="7925040" cy="576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단위과제명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과제명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과 제 번 호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접 수 번 호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관연구책임자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관연구기관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굴림"/>
                <a:ea typeface="굴림"/>
              </a:rPr>
              <a:t>세부연구책임자 </a:t>
            </a:r>
            <a:r>
              <a:rPr b="1" lang="en-US" sz="2000" spc="-1" strike="noStrike">
                <a:solidFill>
                  <a:srgbClr val="3333cc"/>
                </a:solidFill>
                <a:latin typeface="굴림"/>
                <a:ea typeface="굴림"/>
              </a:rPr>
              <a:t>: </a:t>
            </a:r>
            <a:r>
              <a:rPr b="1" lang="ko-KR" sz="1600" spc="-1" strike="noStrike">
                <a:solidFill>
                  <a:srgbClr val="3333cc"/>
                </a:solidFill>
                <a:latin typeface="굴림"/>
                <a:ea typeface="굴림"/>
              </a:rPr>
              <a:t>해당사항 없으면 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굴림"/>
                <a:ea typeface="굴림"/>
              </a:rPr>
              <a:t>세부연구기관 </a:t>
            </a:r>
            <a:r>
              <a:rPr b="1" lang="en-US" sz="2000" spc="-1" strike="noStrike">
                <a:solidFill>
                  <a:srgbClr val="3333cc"/>
                </a:solidFill>
                <a:latin typeface="굴림"/>
                <a:ea typeface="굴림"/>
              </a:rPr>
              <a:t>: </a:t>
            </a:r>
            <a:r>
              <a:rPr b="1" lang="ko-KR" sz="1600" spc="-1" strike="noStrike">
                <a:solidFill>
                  <a:srgbClr val="3333cc"/>
                </a:solidFill>
                <a:latin typeface="굴림"/>
                <a:ea typeface="굴림"/>
              </a:rPr>
              <a:t>해당사항 없으면 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연구기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: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년      월        일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~ 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년      월        일 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당해연도 연구개발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: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천원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목표 및 필요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계획서와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RFP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의 부합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범위 및 내용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추진전략 및 체계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책임자의 역량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업적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전문성 등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수행에 필요한 시설 및 장비 </a:t>
            </a:r>
            <a:r>
              <a:rPr b="1" lang="en-US" sz="1600" spc="-1" strike="noStrike">
                <a:solidFill>
                  <a:srgbClr val="0000ff"/>
                </a:solidFill>
                <a:latin typeface="굴림"/>
              </a:rPr>
              <a:t>(</a:t>
            </a:r>
            <a:r>
              <a:rPr b="1" lang="ko-KR" sz="1600" spc="-1" strike="noStrike">
                <a:solidFill>
                  <a:srgbClr val="0000ff"/>
                </a:solidFill>
                <a:latin typeface="굴림"/>
              </a:rPr>
              <a:t>해당사항 없으면 삭제</a:t>
            </a:r>
            <a:r>
              <a:rPr b="1" lang="en-US" sz="1600" spc="-1" strike="noStrike">
                <a:solidFill>
                  <a:srgbClr val="0000ff"/>
                </a:solidFill>
                <a:latin typeface="굴림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971640" y="1628640"/>
          <a:ext cx="7200720" cy="4105440"/>
        </p:xfrm>
        <a:graphic>
          <a:graphicData uri="http://schemas.openxmlformats.org/drawingml/2006/table">
            <a:tbl>
              <a:tblPr/>
              <a:tblGrid>
                <a:gridCol w="1893960"/>
                <a:gridCol w="822240"/>
                <a:gridCol w="1706400"/>
                <a:gridCol w="1957320"/>
                <a:gridCol w="820800"/>
              </a:tblGrid>
              <a:tr h="633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구기자재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및 시설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수량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용도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확보 및 활용방안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471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04:24:03Z</dcterms:created>
  <dc:creator>SEC</dc:creator>
  <dc:description/>
  <dc:language>en-US</dc:language>
  <cp:lastModifiedBy>a</cp:lastModifiedBy>
  <dcterms:modified xsi:type="dcterms:W3CDTF">2016-10-28T04:58:16Z</dcterms:modified>
  <cp:revision>50</cp:revision>
  <dc:subject/>
  <dc:title>2006년도 식품의약품안전청 공개발표 선정평가    ℹ 사 업 명 :   ℹ 과 제 명 :   ℹ 연 구 비 :   ℹ 신청기관 :   ℹ 주관연구책임자 :</dc:title>
</cp:coreProperties>
</file>